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12.png" ContentType="image/png"/>
  <Override PartName="/ppt/media/image31.png" ContentType="image/png"/>
  <Override PartName="/ppt/media/image29.png" ContentType="image/png"/>
  <Override PartName="/ppt/media/image38.png" ContentType="image/png"/>
  <Override PartName="/ppt/media/image8.jpeg" ContentType="image/jpeg"/>
  <Override PartName="/ppt/media/image33.png" ContentType="image/png"/>
  <Override PartName="/ppt/media/image34.png" ContentType="image/png"/>
  <Override PartName="/ppt/media/image35.png" ContentType="image/png"/>
  <Override PartName="/ppt/media/image5.jpeg" ContentType="image/jpeg"/>
  <Override PartName="/ppt/media/image13.png" ContentType="image/png"/>
  <Override PartName="/ppt/media/image37.png" ContentType="image/png"/>
  <Override PartName="/ppt/media/image39.png" ContentType="image/png"/>
  <Override PartName="/ppt/media/image32.png" ContentType="image/png"/>
  <Override PartName="/ppt/media/image41.jpeg" ContentType="image/jpeg"/>
  <Override PartName="/ppt/media/image42.png" ContentType="image/png"/>
  <Override PartName="/ppt/media/image9.jpeg" ContentType="image/jpeg"/>
  <Override PartName="/ppt/media/image11.png" ContentType="image/png"/>
  <Override PartName="/ppt/media/image28.png" ContentType="image/png"/>
  <Override PartName="/ppt/media/image7.jpeg" ContentType="image/jpeg"/>
  <Override PartName="/ppt/media/image18.png" ContentType="image/png"/>
  <Override PartName="/ppt/media/image2.jpeg" ContentType="image/jpeg"/>
  <Override PartName="/ppt/media/image20.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 id="303" r:id="rId90"/>
    <p:sldId id="304" r:id="rId91"/>
    <p:sldId id="305" r:id="rId92"/>
    <p:sldId id="306" r:id="rId9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slide" Target="slides/slide48.xml"/><Relationship Id="rId91" Type="http://schemas.openxmlformats.org/officeDocument/2006/relationships/slide" Target="slides/slide49.xml"/><Relationship Id="rId92" Type="http://schemas.openxmlformats.org/officeDocument/2006/relationships/slide" Target="slides/slide50.xml"/><Relationship Id="rId93" Type="http://schemas.openxmlformats.org/officeDocument/2006/relationships/slide" Target="slides/slide51.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C52E-C745-4C61-B750-9303F44FDC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50920" y="698400"/>
            <a:ext cx="4653000" cy="3490920"/>
          </a:xfrm>
          <a:prstGeom prst="rect">
            <a:avLst/>
          </a:prstGeom>
          <a:ln w="0">
            <a:noFill/>
          </a:ln>
        </p:spPr>
      </p:sp>
      <p:sp>
        <p:nvSpPr>
          <p:cNvPr id="175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08C6-4F06-4953-84FE-8DB1AF801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50920" y="698400"/>
            <a:ext cx="4653000" cy="3490920"/>
          </a:xfrm>
          <a:prstGeom prst="rect">
            <a:avLst/>
          </a:prstGeom>
          <a:ln w="0">
            <a:noFill/>
          </a:ln>
        </p:spPr>
      </p:sp>
      <p:sp>
        <p:nvSpPr>
          <p:cNvPr id="177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2D86-2439-4B1F-987E-352C51328F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F378-ECD2-473C-BE05-3045010CB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4B46-7192-4FFD-8E23-AA659D27A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8B0E-6A22-4357-8654-35862E6D1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0581-45AC-4A3F-9CC3-8A402CBA3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AF7E-75F4-4245-BC8F-5AE493477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FB83-A780-4D65-91D7-6D3C278CA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072D-AC2F-474A-972E-1AC131B58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62B3-4F04-4D8F-AC92-8B69E45C9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D43F-6EEE-42E9-8D2F-CF65F794F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D0E4-D1E1-4583-ACA4-0949747F9F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E8D7-47F1-4B3E-83F8-C7DE3A7B8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67AD-0649-49B5-9C25-0A85E2F87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E7E0-9CBC-4128-9129-66B5466B7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6AD6-699F-46AE-8189-4B0435148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1CE5-ECFF-4505-B2F6-0101039CB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2AA1-F9DA-4C2E-8B01-E5AC434AF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B5EE-96F0-4EB3-B310-A39F52B3C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0CD4-CCCB-4F0E-A124-99CD57A3E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D807-994E-4615-AC30-688510614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50920" y="698400"/>
            <a:ext cx="4653000" cy="3490920"/>
          </a:xfrm>
          <a:prstGeom prst="rect">
            <a:avLst/>
          </a:prstGeom>
          <a:ln w="0">
            <a:noFill/>
          </a:ln>
        </p:spPr>
      </p:sp>
      <p:sp>
        <p:nvSpPr>
          <p:cNvPr id="183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2BD1-A7DB-4F50-BAF3-392E46488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50920" y="698400"/>
            <a:ext cx="4653000" cy="3490920"/>
          </a:xfrm>
          <a:prstGeom prst="rect">
            <a:avLst/>
          </a:prstGeom>
          <a:ln w="0">
            <a:noFill/>
          </a:ln>
        </p:spPr>
      </p:sp>
      <p:sp>
        <p:nvSpPr>
          <p:cNvPr id="183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CFFA-1CCD-4F1A-A73F-ACDCF401E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sldImg"/>
          </p:nvPr>
        </p:nvSpPr>
        <p:spPr>
          <a:xfrm>
            <a:off x="1150920" y="698400"/>
            <a:ext cx="4653000" cy="3490920"/>
          </a:xfrm>
          <a:prstGeom prst="rect">
            <a:avLst/>
          </a:prstGeom>
          <a:ln w="0">
            <a:noFill/>
          </a:ln>
        </p:spPr>
      </p:sp>
      <p:sp>
        <p:nvSpPr>
          <p:cNvPr id="183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3ABF-4797-49E1-91D6-37212F7CD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50920" y="698400"/>
            <a:ext cx="4653000" cy="3490920"/>
          </a:xfrm>
          <a:prstGeom prst="rect">
            <a:avLst/>
          </a:prstGeom>
          <a:ln w="0">
            <a:noFill/>
          </a:ln>
        </p:spPr>
      </p:sp>
      <p:sp>
        <p:nvSpPr>
          <p:cNvPr id="184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5B3C-D990-495C-BDF1-CDAF3EC14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sldImg"/>
          </p:nvPr>
        </p:nvSpPr>
        <p:spPr>
          <a:xfrm>
            <a:off x="1150920" y="698400"/>
            <a:ext cx="4653000" cy="3490920"/>
          </a:xfrm>
          <a:prstGeom prst="rect">
            <a:avLst/>
          </a:prstGeom>
          <a:ln w="0">
            <a:noFill/>
          </a:ln>
        </p:spPr>
      </p:sp>
      <p:sp>
        <p:nvSpPr>
          <p:cNvPr id="184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8B24-493F-423B-BB65-153C49D89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50920" y="698400"/>
            <a:ext cx="4653000" cy="3490920"/>
          </a:xfrm>
          <a:prstGeom prst="rect">
            <a:avLst/>
          </a:prstGeom>
          <a:ln w="0">
            <a:noFill/>
          </a:ln>
        </p:spPr>
      </p:sp>
      <p:sp>
        <p:nvSpPr>
          <p:cNvPr id="184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091C-F8AE-4945-A6A1-FE000E18E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1150920" y="698400"/>
            <a:ext cx="4653000" cy="3490920"/>
          </a:xfrm>
          <a:prstGeom prst="rect">
            <a:avLst/>
          </a:prstGeom>
          <a:ln w="0">
            <a:noFill/>
          </a:ln>
        </p:spPr>
      </p:sp>
      <p:sp>
        <p:nvSpPr>
          <p:cNvPr id="185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2235-C5DE-4B97-9D98-3A7AADF22F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1150920" y="698400"/>
            <a:ext cx="4653000" cy="3490920"/>
          </a:xfrm>
          <a:prstGeom prst="rect">
            <a:avLst/>
          </a:prstGeom>
          <a:ln w="0">
            <a:noFill/>
          </a:ln>
        </p:spPr>
      </p:sp>
      <p:sp>
        <p:nvSpPr>
          <p:cNvPr id="185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6BBB-B9D9-45A9-A7D3-8749824B9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50920" y="698400"/>
            <a:ext cx="4653000" cy="3490920"/>
          </a:xfrm>
          <a:prstGeom prst="rect">
            <a:avLst/>
          </a:prstGeom>
          <a:ln w="0">
            <a:noFill/>
          </a:ln>
        </p:spPr>
      </p:sp>
      <p:sp>
        <p:nvSpPr>
          <p:cNvPr id="185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p:txBody>
      </p:sp>
      <p:sp>
        <p:nvSpPr>
          <p:cNvPr id="185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0874-108B-4313-AB56-F13596E94F5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150920" y="698400"/>
            <a:ext cx="4653000" cy="3490920"/>
          </a:xfrm>
          <a:prstGeom prst="rect">
            <a:avLst/>
          </a:prstGeom>
          <a:ln w="0">
            <a:noFill/>
          </a:ln>
        </p:spPr>
      </p:sp>
      <p:sp>
        <p:nvSpPr>
          <p:cNvPr id="186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6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E7D4-3135-482D-A2C2-4CA4431B1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sldImg"/>
          </p:nvPr>
        </p:nvSpPr>
        <p:spPr>
          <a:xfrm>
            <a:off x="1150920" y="698400"/>
            <a:ext cx="4653000" cy="3490920"/>
          </a:xfrm>
          <a:prstGeom prst="rect">
            <a:avLst/>
          </a:prstGeom>
          <a:ln w="0">
            <a:noFill/>
          </a:ln>
        </p:spPr>
      </p:sp>
      <p:sp>
        <p:nvSpPr>
          <p:cNvPr id="186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7B32-3B80-4646-937C-504F2D3EB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C086-E7CA-4834-BBB1-C8461F539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50920" y="698400"/>
            <a:ext cx="4653000" cy="3490920"/>
          </a:xfrm>
          <a:prstGeom prst="rect">
            <a:avLst/>
          </a:prstGeom>
          <a:ln w="0">
            <a:noFill/>
          </a:ln>
        </p:spPr>
      </p:sp>
      <p:sp>
        <p:nvSpPr>
          <p:cNvPr id="186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D849-91FA-4FCE-833F-F732C80D9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1150920" y="698400"/>
            <a:ext cx="4653000" cy="3490920"/>
          </a:xfrm>
          <a:prstGeom prst="rect">
            <a:avLst/>
          </a:prstGeom>
          <a:ln w="0">
            <a:noFill/>
          </a:ln>
        </p:spPr>
      </p:sp>
      <p:sp>
        <p:nvSpPr>
          <p:cNvPr id="186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5A70-C656-44B1-A52D-3629C970E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6ABC-DB6A-4881-99DB-5DFB56C9F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50920" y="698400"/>
            <a:ext cx="4653000" cy="3490920"/>
          </a:xfrm>
          <a:prstGeom prst="rect">
            <a:avLst/>
          </a:prstGeom>
          <a:ln w="0">
            <a:noFill/>
          </a:ln>
        </p:spPr>
      </p:sp>
      <p:sp>
        <p:nvSpPr>
          <p:cNvPr id="176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F00A-2A5E-463A-83E3-67C58E864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2D2A-9FB5-4D00-B972-A7632205B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50920" y="698400"/>
            <a:ext cx="4653000" cy="3490920"/>
          </a:xfrm>
          <a:prstGeom prst="rect">
            <a:avLst/>
          </a:prstGeom>
          <a:ln w="0">
            <a:noFill/>
          </a:ln>
        </p:spPr>
      </p:sp>
      <p:sp>
        <p:nvSpPr>
          <p:cNvPr id="177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7957-0B13-46AC-9828-5F17385F0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0D6CA-9739-437D-8C25-44439F9A4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7DA04-2D2A-4203-AC83-FA2E58426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3B1C5E6-69CE-4746-9FDD-6C6499EC83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9DC1F720-2945-42CA-90B3-D05593EE47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3D4D759-2382-46E3-87BF-3C195FB49E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0EA5CB8-14DE-44C1-A477-9F7CC0430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39A1E11-0ACD-4794-B724-A395F3978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7B43E59-716B-4A0A-AFE1-3B170380F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7DFFF90-D9D7-47F9-AC63-ACCB92D71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AE3E03DB-20B9-4C7D-AF32-4FC1CC38E2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E719BF6-23E4-47EC-9F47-B5FF582181F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1591C96-A70F-4E6B-93C5-2DBC6DEEB0D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5DBCD-2E0C-4462-8D62-A9A4334BF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BD7628B-CE0B-42AF-B4A5-920691A238A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4DA4042-2039-42C9-9CA1-6973D2D625A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60B088EF-3B6F-4DDB-97A1-E44BE8D54A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B6D4C54C-4EC2-4847-8AF1-693E3A85B3D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5333563A-FABC-4812-B9B3-CB1BBA2D412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4E34FCF-17FD-47E3-B584-EA3BDF6C34E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9DFBECC-F7EF-4232-9098-C04730B99D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61BD5A9-FF8F-43AB-960A-868AE605E3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6216723C-3D28-4001-A3C3-C546321F8A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16AEF549-09DA-4442-BA44-C58FD08A81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FF754-35C5-4AE3-8306-9544CB110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4F3FFC0F-730E-4DC5-8DBD-75A23B816F0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C503212-04AD-4EA4-B792-7084DE75F2C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DF524B4-B086-45DE-B021-46333C37133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04FC6F2-3384-4006-A21D-804E4B7AC75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336870-3922-4313-B287-DED3A7CCED5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275F9AB-7EBB-47CC-B3B8-4D68C587613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2FE9F0A-EC6C-466F-9342-CEDAB568953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2ED46C9-72A3-4514-9319-69A45DA566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76CDCDF-D223-4B6E-B358-036E5CD1D2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A2C8C94-A5A1-491A-817C-BE7AB8254D2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2FA4D-4D47-4800-9DC8-5819C4A9F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41D38D2-9C6B-4208-A7AD-00757AFFFE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CE211CF-91E4-4E98-A76B-4810AF477B7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5CEA363-EE64-4CCC-91E6-1589EA838B0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7F41865-316D-4B9B-A533-B144663F3CC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AAAC86-A0F2-43F7-BBA8-12CC42A1FA6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61413BE-87DE-47DB-8A0A-8F5DF41E517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858C123-E177-4324-9A5B-BD28D317B6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419C836-FE57-44E3-A480-F5A57A3B8A6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0243067-AE93-4549-96C8-9619FE712B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B6FAF85-57B2-4903-84BD-03FE9F7659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C98D5-B81E-440E-A115-C9A3889F8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B25877B-F0AD-4BD3-98F3-9917A9064AF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0B24490-8B7D-4ED6-B8A1-EB0FE454484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9DCA39D-F9F2-4A00-8B8A-52D0A5F9A5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AF96187-CFE7-4713-AF86-B9080C88508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34DB7D2-26B4-4285-B263-4236A06A4E2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FF04830-5195-4532-B5D8-F85D1AFFD3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D7FB393-C7D3-46E1-8E09-78A5EC1018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DE58F82-78D3-4C04-A1DE-4350B5C1D9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AAA9CE6-248B-48F8-88E8-A344488E86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D0613BF-5D8D-45C9-A127-156938454B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BDFDF-57DC-48DD-93AC-3FACB202F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FEB0552-D878-4FDF-8952-AAA9501F6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E547E3-3347-41B5-96E3-F02AC87FA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22B19E9-812C-4F79-817C-57E82707F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D3647B2-FEA2-4287-AE66-7AB939662B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51B9999-D828-48E2-B55F-F0BA42B8E9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70E1978-0AB7-48C2-ABFF-91B34517F5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9A2DE28-5D34-4896-A8A6-63B4A3BA53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556A156-19EE-47A3-B281-DA0A5FB0F2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A1E2C53-5EC9-4311-B486-EAB2E5E9B9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3489A90-2133-4FC9-A080-01CBDF430C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E5882-0D99-47A8-BE36-2F8E148CE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6E7D29D-1399-4DBF-A685-A21B9C2095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295423-6F5D-4E51-82DE-584894C38A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0384EF6-177A-4FBB-9745-F8F7BD7EDC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C16CE4C-EEE0-4308-AE1C-96E566461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8CB78AF-56F4-48CA-9B5D-1394240F83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D111CA9-E7FF-42E4-9151-0F3D8E5D19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D137667-6E16-4114-A010-171F6FD90A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FD46C50-58CE-4C3B-8709-3BFBB66A5F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A8DA2F1-3975-49EF-9088-4C4ECC347E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E3EF342-D98C-4E1A-815D-55F3A3BEE7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A7BD7-CAD9-4F4E-8576-B4E81A029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B4C9D9C-ABED-4BB8-8F8D-B17BFFE10F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E889431-7924-4844-A062-BDD725306C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E426577-528A-4EC7-BF6D-14FECDF398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162C3AE-C1DB-43EA-B394-CEB6F1340B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2E52035-C7A1-48A3-84AD-F47EA4E4DB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219BC26-DF23-4054-A36A-6BFBCB004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3667108-28D6-47AE-9FC3-5C73232CE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0E66685-6F29-4B53-88EE-D7F2F60FDB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12AEE44-C39F-4CA4-ACBD-FFCBE51161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C953B75-1831-4801-B1D9-18A2E60BAF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9D9C3-347D-4CFF-B47B-703519B8C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4115010-2FA2-4B40-ADF5-8B234C9B34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F947452-B07A-47AD-B146-A22669A051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0D43DAE-5097-4202-97D4-B2EEAA91A5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BE02B9B-8107-4799-90B7-28820E6FC6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8F9FBF9-4FC6-4B12-A62E-03E4C14AB7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A117A5C-2A5A-43FE-9FE7-1F6D50B772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3A2D902-F424-47D6-99D5-8179839B52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98968DF-6644-4B1C-9157-A49461BA94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4CAB937-3BF1-4740-BF4D-03DEF18435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7500439-CE19-4916-81CE-C829835EFB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86C2D-06A2-4FAB-96E7-2F28EF85E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74A1C91-DBEA-4D91-B4FA-36438B579A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B81C221-7E8A-424B-844E-5C4800BC9B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1DED542-3FAC-4CB2-9795-07F17CA87D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C66BB54-87D4-4E2C-A125-7673234116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1FF1DC7-453D-44F7-90EF-D5CED9968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B94DBAD-3D94-4FB4-A6A0-4FED0443C5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A3356D0-BF40-4D3F-BC1E-8CE8A5989A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1AE7601-F0CD-4C93-8581-BECCE5AC09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DD2BCEC-B2CD-455B-930E-B866EE5BF8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C5BEA25-F7F6-46E9-9CB8-5A96246D7C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2551D-EB16-490D-BFE7-7F7BC455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C0A2C-FEC5-435F-9E70-789FA4222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894E8A5-C1E7-4B3F-AADA-B52FBCDC17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716C386-9308-444E-9DEF-C8E807840E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95EEB25-00BE-4BDD-B13B-571E13C4F2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6319BEC-8538-4A1A-8686-A982BAF9C1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865E5D3-8CE7-4CD1-B600-14670067FD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C503E06-D83C-477E-BE89-01AD9E5EF3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0E54C48-E5F6-450F-ABD5-49110E1D68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CDCAE16-91AC-4F83-A09B-8FDAA65AF1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A9E9D32-27E9-4E78-A9DC-E0917730F9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9360117-D396-4052-B404-B78CD72E0E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A201C-2600-41E3-91D3-1F9669BB0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120B597-D65C-42D3-8C8C-F7DF54E0D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09E9394-D5C8-4A44-930E-655CF96F40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7DC7349-1994-4A99-86D0-1A65D42A7E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33C9BC7-D95A-45A7-87CC-BA10341549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1A6C55B-9F31-4DD1-8487-3D97047F30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A01D971-017F-443E-97EA-9B6787D433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748A427-C126-4F72-89AF-BACB0224D0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9890480-DC68-4164-B21C-4DAA58A504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7E40B61-6B5A-42DA-B9E9-E574E190A2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30EA77A-58A9-415A-BEB8-670F86046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4DEBF-CF09-480B-9DC4-2EC143F1B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9E5440F-A9F1-42A1-B9C2-505A13F014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584BD7B-A77C-4C4F-8F5B-15CDF17D48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E912EBF-ED71-4F90-9ECF-0A18E21E6A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B3FE788-8C33-4327-AF45-9820A61ABF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198D0FF-ED25-4B44-A69D-A4BA4B0206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B491BE6-FD55-4D6B-9987-9882FFF1D8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C13DBFD-36A2-4149-AE43-1A64AEA0F7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905C878-7E6E-452D-85ED-067C87B710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5628C81-F8BB-4C13-8073-6FC4227250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8BA5787-1567-492E-A081-27B2BC7BD218}"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5E921-E16D-4C6A-B021-265D9028F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87BD7538-A2B8-482E-AF36-D361C334CDC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309BAFC8-53D7-4C3D-A0A6-80DE54D1EF1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781B9002-E9E1-4520-A66C-BDE337E78E6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F9F22401-FC74-4ADD-98ED-B9B761E4B4A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A3C10E4C-35FD-40FB-86F2-C1DB49E2ED3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1299B28C-D176-45CC-9C5B-BC1BB5791D6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020B763B-5334-4363-97AA-98D2A6C1019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4E66CB85-3638-4DCF-A8BA-9378FAD8859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5F7F2BFB-0C4D-4133-A321-E6FFC486CA7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8B5DED92-2D2F-4DBC-9163-C0F74AFBC23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D79FB7-2CDD-464B-BB3F-6A50F3915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0BD35580-A9A7-4F43-B333-7E88555F5FC0}"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BCA7AC32-FA17-4BDD-8962-88BADE40B4B3}"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AE9287E-A828-47E8-93C4-0F1765DC211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A4F4D625-6718-4A1E-9E1C-1D345EF4CC6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4A70F0F5-C7BF-4DDB-BA9B-0A1E9C4692B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EB1B3AFA-0AC5-4BC4-8A51-8AC49D74EB5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4CBE4AF7-0818-439D-B034-5EB499B6D7D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0433B09-CFE9-4FA2-B225-C211F67277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8968CB9-49E4-4EB7-8A77-82688754997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60FAE30-B89F-4147-A2AF-DF8D734E2C5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FF3858-70F9-42DD-812C-5233D723D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E86DF52E-52F7-41CF-80DD-AD580938AF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AC156B18-A978-4618-83C1-58224D4C29C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385C8986-4B6A-4661-B508-75FDCD50CD79}"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0C54883-C3EA-4E5F-887B-E20ECA62EE2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E8A5DEE-8245-4038-94EA-5F1997BBB54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73E3634-B03A-403E-9042-22F9A0607BC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909B643-47D6-4EC2-BF70-D098DFE387F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698E9F63-DE7B-43B5-9752-0B07276907F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663C610-3599-450D-A53E-5773B2A0B1D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FD651C5-9B74-48A5-9ED8-FAC278F7D15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6D865-E9ED-4352-978A-A502195D8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6B4AD5A-944A-4AEB-A78D-E3D4D94B5F8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FC5FD2C-BB3E-4565-AFBF-420C0C41709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D2413DF-625C-4C77-BCAC-18EE298588C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AACD0B9A-C03F-4F83-AAE8-E948C677C6D1}"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1607F19E-CCD4-4CAB-A595-A866DC7FF22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67D64A6-7DDF-4C17-A0D2-0EAA558BF1C0}"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9998C90D-522E-4F0F-989B-44581778266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C675EA3-08AC-45A3-B096-4D2FE1D740F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DF71979-FFEE-4E1D-998E-3A18BCE359F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2E6E545-9544-4046-AE2C-E942BAC37D70}"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75BA0-1D05-4987-A2EF-EF7AAA299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19BCC50-1082-40F4-AA0C-85BEE2C851D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1B70A85-8322-4953-8225-F5F768630D0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2A9882D-1719-4275-9DE5-8A84F4C12CE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514EE04-888B-40F0-986F-7E0666A7303F}"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8823CC9-4762-40E4-A83D-71474E8B23F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5FADDA86-352B-4C49-B836-0247A562C3BC}"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179E4BB-E5D0-4A9D-8DFD-2DAF76E00FBC}"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F399A50E-EB6B-4CC9-BAF9-E0E2B3E09C2A}"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5168002-8790-4A43-8406-774519F0F42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6F8147B-2AAE-46CF-93A9-101DE00EBA3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FB0F0-047B-405F-8818-CF3F49E29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C555EA9-9BC6-4820-86D0-1C60AB4A8A3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EBA25C2-0DA7-4BCC-8196-8345BCE5EE82}"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28B29A8-89B1-4A4F-B9B5-B7796667F844}"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900FDF4-50AA-4013-8966-848A6370FE8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A818953-4D1C-4731-8A84-C549F21E14E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62BBACD-7033-4C4F-A00D-728480C9EA8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E1E40C0-DC72-4B36-9A57-F72B0CE3347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E347BA4A-AC4E-4D2A-AE0A-6A83041E13B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9C16F7C-3091-4168-9EFB-E1F350C73925}"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6F1AF690-098B-44E9-A94A-61A6FD76FD35}"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130A46-8F60-45CC-BD85-4E1288D7F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460E5DA-EEC8-48F0-A3C4-2EE26380E5F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505DE4DA-476B-44D1-9872-0E72E791EB9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3759128-AEA6-4089-B1E7-7FCB9F47D50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363CD482-A002-45FF-9483-30E3A6785D0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C1F354A-9244-470D-BA87-41F0DDDB3E6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908184A5-12BF-447A-A1E3-A26265E5B6D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10FC985-648D-445F-8796-5C2FA84D3B53}"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3AB1723-70A8-4A93-8280-92C58B98CA6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D4ED4ED-CE94-4675-AB71-C625BDD9EA9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166B4AF9-8C43-4564-95BA-F507DEC62A27}"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EC46-09E4-4700-97AC-5CCEA498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1C499-61C6-4137-A5B2-BFBCEAD84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CFA1359-9EE4-447F-BBA3-84A40A92A89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5748FA36-D7E5-4F43-A021-89383405C9AF}"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D32B4711-FAE1-4328-92D8-A93A9F02AA10}"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0AE8B9C5-3FF0-4D15-80C4-BA7D17B6421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9096127-1F68-4F3D-80F5-657B73FF963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EA2D537A-F4EA-4071-B3E3-B4CD2103748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539A7D46-4707-4FCC-B123-AF86C5E6ED8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3DA1FF7-192A-4D70-B704-D7DE31AE153A}"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FD2D303-7556-4724-928D-D9B3D6A215B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26CA8D5A-28CA-4F2D-A64D-5D2D10E40CC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31AA6-8DB6-4760-8AE8-DE1E828A0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1FEC8A80-881C-4F47-A5F9-551FA0EBC71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3D178D73-6292-460E-8B55-DFE370FC5FF1}"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DB6078DE-64DC-4442-9B24-9D838D9E4D15}"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B8EC7A14-3382-4AD2-AA83-13A7A183B06A}"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70BB5581-5CB4-4E05-BD8B-E067EBB2F8A8}"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37B197DC-5621-443F-9069-AF20BDDF604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80865B7D-85B6-4D01-B445-20EE79D9F0F5}"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65D9114A-8730-42A7-BB0E-01833EB58BB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C74AEF3-FCF0-4C86-B117-2D99D56F8CD9}"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3A97FD4F-E57D-4346-B111-B1FDE5A743CF}"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613A0-EFD0-4672-99BF-8A0FDE49A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F060FDDA-D721-4B28-ACF7-A3697421FC83}"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482DEB9B-C43A-4A05-8895-433D470ECCFF}"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539D0404-AD15-48B7-A05E-45F6DC1766A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8F24E481-0093-478A-92B7-D0EF4B8E6B96}"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27480CFF-8FFA-4076-9701-B2EB45C2C895}"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C08FA12B-0FBA-4D01-B922-7BC2F922D2AF}"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E5E44A53-DA7C-43C5-BBC8-B0C0C19DFF6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5A0DEF7E-EFF6-4F5D-A342-864715262CAB}"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256858A6-E598-49CD-9F3C-C5A07E964E15}"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72232AD9-C2A8-460E-89B5-06CA29B9459F}"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46786-B00B-4354-A013-7EF0BC92D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8B6F7BCA-1B8A-40B9-B6E3-F5F7F7A9021E}"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B4EE847D-F620-45C3-B2EF-645922111206}"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0E6483B9-B6FE-46B4-B7BC-8C4A719094B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7A7CB41-35E0-4C26-BEF5-6AF3FF2082B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2A65193-EA09-4CBA-B674-01C158042CF4}"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0A32A0DF-C2C7-44F8-B64E-33376E5E2B6D}"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3F384B4-DEA4-49B4-AE8F-39BC3D722B02}"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B4439A0A-451F-4AF1-BA01-E345EFD6EAC8}"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DD6F047C-E28F-4F7A-BDAD-3007B3CD7573}"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165023E6-4F11-4455-99D9-6DF787087784}"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8215C-1BCB-4DEC-9B00-754C36863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3D07374F-2C1E-4DCD-A1B2-ECBA37C18B10}"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5E0BB010-01D3-4BF1-ABF6-5557BD54ECF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D9401949-6AD6-4C71-B267-A9B353CB6B5F}"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A1002263-163A-42E3-889F-597E68DE5B8C}"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E9F97B36-44A1-4887-A920-CA33F778C416}"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7668EFA5-03C4-4F6A-8ED6-FB07BDA13944}"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040B7595-13FE-4E7E-A860-F538F9167C68}"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E1398097-BE85-4ACD-AEDA-B093B954798E}"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9BD66D27-8CD4-4227-BA0E-2BE7866C4426}"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DA7D264B-ACFF-4E39-B94B-D9CCDF1FB20B}"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31B78A-C77C-4B00-B505-D4E54FB530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D310C58D-A355-47B2-B656-3599DBD99099}"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8E1E425D-6C53-4E18-AC0C-D2D6B31EA05D}"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3770FE48-EE97-4BD8-A116-7F5961FF8106}"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84CD2BD-E84D-49BF-8F8C-CBC5C60585CD}"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A3105D1E-F63B-45DF-BE5F-B8707FC6E59E}"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ACFF8E7-90B0-4582-A1F9-9EFB70CDA0FB}"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79E8204D-272F-4721-8032-CBB2F84F5450}"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24993ED-78AB-4FE6-A0CE-FFCF6B160D75}"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992C4EA0-4E36-4A64-8B36-92CF6EA2AC8F}"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AA4A5DDF-2DAE-4F9D-9981-7BCF07B8BEB6}"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E36F97-15C8-42ED-BD57-C4390E22CB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469510FA-1AA4-4133-A23E-70465E6A3D53}"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F40C01C0-DF8F-4350-9878-746BB8D04AD0}"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8B1C3F33-F299-4AFE-AB61-2E1DD24D0AFA}"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02EF96B-88CE-4A56-A996-617F0E2D9546}"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DBFFE878-9B16-403E-896C-AB2FE70F2A2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087B0EE-24C1-463E-BE9A-FD0EA9AE58BC}"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5F2F479A-01AD-4EAD-93BF-DD7A5076D537}"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4E7A2CB-B4BE-45B5-B42D-F389A8A3019C}"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FFD94FE4-A901-4891-AEF4-570E10506BA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BDECAEF-E836-4C41-82CA-FFDE8EA4C183}"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7FA97C-6F3A-4C65-BAAD-41877A15A9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EBDE33CD-4239-4E71-A3F0-491A7DED2D1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BAC90640-DD60-4886-848E-2E3B7E8DF06A}"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90167EE8-B2BB-4EBC-99E7-550CB72F7663}"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F804300C-09E0-49AC-8A01-CF22A1055E00}"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3D8B3FA6-BC2A-4F50-826F-FE05817EF2F6}"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51865B0D-1304-4144-8E40-3FE31598CD33}"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A269B79-F168-45B7-A191-908C32B2DFA7}"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6029F023-A527-4760-880E-2BA92A5BB6AC}"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931321D4-4BBE-441B-82D9-108AF883BE4B}"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0E0C746A-2372-4330-BCFA-746F039FCAE2}"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A9A92-EEEC-44FF-94C2-0851493D0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52EE9FE7-C1DD-4911-B583-4566C1D75EB6}"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1B5893B-6C46-4F4E-9D57-1FF33CDE485D}"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C2F52BD4-B12D-4896-A124-1AAC9095CF35}"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6BB3A78F-9F2E-4804-8833-BCEEAAE8ED56}"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994EB75C-133D-4B2A-8318-146FBE382831}"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05EA5FF9-5F27-4DE8-B8F3-5F2000C5B2B5}"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01C785A5-BA8B-426A-A3BA-34FE71AAFF4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E9949A25-6AE2-4436-AD0D-082A0A20F17D}"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FC727630-AC94-4084-A18B-03E765EECF3B}"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060DEABD-A276-4238-9628-67102B471ECB}"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FAC5F-ADA4-483F-BEA7-C1CFB0957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84C4788E-AA38-401E-84AD-84D0E780033C}"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3CA9F10A-EB1E-430B-AAEA-BADF2EAAAB35}"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64B0C2F7-8E5C-4053-A913-33580B4A56F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94E7D02A-68E5-4F6C-BC82-497D5CEA464F}"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10BB02AB-7597-446F-AC13-0A1A69CDE2E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B8B22F50-6233-4F9A-9386-012258263FCF}"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7212E4EE-0DD6-4683-9F6F-98B9DF4D54F8}"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D059D16A-06C2-4720-AC0B-9FA28F1E8A67}"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60836C7-DB36-47E0-95F0-C5B84D111B30}"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3D101BB2-33D5-4B83-AD27-CB4A92104FBD}"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F72F-FB13-4688-92EC-A60F4BC08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90579-B55A-4414-9246-19BDFFD0C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66C4C676-C1D0-43FE-B231-D163B3B7571C}"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0083F7AA-2587-4902-B47F-2F2F7166F138}"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A24DC227-19D0-401F-88EA-4909D5306842}"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6BD7AB1-C2AC-461D-B55D-45BCEF2F67CE}"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1FE7D19B-CF6A-4F5F-8824-DA0B95F02AB7}"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5FC1DA67-EF59-46B6-8BBB-3681EA1FD722}"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C6981086-D35B-41F6-97AC-C8A9978C7CA9}"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CBA92536-6E0A-43CF-8F2D-3AD227E14724}"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BAF1AD04-2D1D-44BD-81F2-1E985F98BC45}"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C264B25D-B852-4CB2-8CF9-74254A7576FA}"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BC180-9D34-4499-965D-371234B0A2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BA6FF4C1-A49B-4AFD-A802-047F5A652E08}"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C7CF82BB-E08E-4FAE-90D9-1548C890AE62}"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19679403-19D8-4D7B-9AED-BF3DCA9E775F}"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2BB184CC-80AD-4698-90B6-F89B9BACF444}"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BD25281D-90C7-4CF0-ADF9-DCA449C23912}"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9A6BAACB-E8F2-4DA9-8AB9-86962262A8EE}"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3EBA88B8-7574-4F40-B639-378EBE64C02E}"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D5E3B8D-8FE2-4087-B06A-2F90CEB6E33F}"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F68BC319-6734-43A9-8B13-5BBBD72E67C5}"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434C0986-6D8D-49F9-B18D-BF17200C3969}"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7337C-2B0E-451C-9EB5-36ECA30E6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CDFE39EA-A9B2-4A1D-8F5E-381CDB5E6FA8}"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C0D33283-034F-4AD2-BEC9-0AC03FF7C4FF}"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EEC9F29F-5540-4AE0-9D96-22AE36A8F3B3}"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0947A756-FEE3-44EB-B0ED-E9354B0D6DFF}"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ECA23698-0A3C-41E4-8194-6F83192E4139}"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7F4BD5A3-49C4-4A56-8140-47B12003AEE2}"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1B2D1CC0-DF05-4D69-8367-7061B16991FA}"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5B0F879-1714-4686-B05C-E601174B89C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1AD9528-9E4A-4D6F-8E6C-CEF850DE1B2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EC74A4B-281A-41DD-ABE7-97903AD7ADA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B3CD3-1B59-49F2-8795-CFBC69D20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2235A456-1600-41FC-A0CB-25B0A73C4762}"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CCA8E736-09B8-4B5C-8A33-B65FA690FBBB}"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2A76D9C7-E5AF-4B3C-B70B-3BDD3D0254DA}"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31EF6A0F-3CB0-4164-BA43-877B68A5C597}"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AD75FB1E-DF3A-4793-8179-B8A864524FEA}"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A222D137-188E-4D52-B92C-096B794A7649}"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63698226-FCF5-4FBF-B4E5-E5F8B7638437}"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45A30C74-E1A3-4765-A98B-6D3EDF843622}"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5BB28D43-A0D4-43FF-A6A2-C32E0519F302}"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3BE73F0C-1BD7-4AAE-920F-7D09C1ADA8CB}"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8637A-2ABB-4699-BCF1-BEF90BF64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06B88212-86A3-41BB-8DDF-14B9B2CA29E9}"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EA2267B0-E347-4A2A-81FD-B81E12650C7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AA6197B1-6685-47DF-A96F-96CCB86A1B54}"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0DE5A556-996F-40D7-B46A-3BC9C838665C}"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03143E9D-2B96-478D-87BC-54957DED08EE}"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900D937D-9707-4EC5-96E4-AC042F506439}"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420A6396-B0D5-47D0-B65A-D47F50392529}"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0C16FF7A-325B-4E8A-A0A0-AE6BAE697052}"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63EC80A1-D248-4FAA-AD04-5D44863C69A2}"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2184232F-EE94-4EFD-A71E-E45EC010C40A}"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EB8D5-F717-48D5-B4D1-FE43EA4F0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8D9FFB0F-E368-4AE9-87DE-1DE3209AC134}"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0A96390-5655-4F04-BB3A-B357BE0FB68E}"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4F440847-4414-4E53-8979-8BE6A862B16A}"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C344B8C-C60B-491F-A5F6-99EDC44A4165}"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6BCB7BF1-D65C-48DB-AEF4-8AB036C646C7}"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6BB41037-DF75-445E-9401-305EE389BC28}"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5EFBE3DA-F3C1-4CF2-B33A-CBB74B3557EC}"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6B06B091-AE8D-4501-94C4-89622422D1F2}"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8A27A499-0A8B-4AC6-B87D-4828EC8EB439}"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653BF1D0-E15D-46F7-AE1E-2D9F8E565CD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6511A2-0AED-4735-AC65-7A8F1BA5D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C24335EF-A58F-4C73-8057-84EF5BDC03AC}"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D5ADD65F-A5D1-4DE7-B89E-F80BA432A9E0}"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5513EF6A-6E8F-4A93-96E3-A7D433A9900C}"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017AE15F-D378-44DC-8DEF-CE51FDDD463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2BBEAE6-B993-4F4E-B955-43670FC49D38}"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3D5136FD-56D6-46F0-BB1B-044789906E06}"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8F273B7B-526E-4054-B83C-6E91B36354BB}"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B7C4D6BC-C1F4-4B7B-AF69-26599B7864D0}"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DE827D87-DD4B-4396-AEA4-92A3A4C0D729}"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97F41602-0F9A-4F23-A328-531B08221DD3}"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2AE36-2914-41D8-97C0-2C8AD2BDD6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F6F77F15-D6F0-4678-99CD-783DCAE285B7}"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4F171908-A0C4-46ED-BB48-A774D864DA0D}"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647ACA10-1011-4C57-8F11-3EE2BB38A4EA}"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8AED1DB-3C83-4F97-AD75-5E452D58BB9B}"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DDD2867-F9BD-4660-BBDF-2D7ABBA2014E}"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3196C6E6-4218-4373-B750-73C8B883289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D7CEE2CE-F187-48B6-9047-E6EA40C4472E}"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D367F2C6-329E-4629-8415-3CB58005F8DE}"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0F325062-D404-4D08-97C1-A15F8DD70C8B}"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F69AF2E9-A358-40B6-930D-BC5465D64121}"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089FCE-B9F9-4D0E-9D7E-D9AA4503E2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D7E6052D-99CB-47C6-86D3-129015CB67F3}"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8DE0E-9F60-4691-BB58-9E23BC80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133C-B90A-4D28-91FF-B40D46F6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B520-5ECB-4869-9557-0E9DFF29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42823F-4566-4019-8962-314576FA7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C2857-893D-456A-BF06-D04BB4407A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9F123-6E57-4817-8869-4D5EDAAD3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75398-0A42-4DF1-98D4-ADEEEC9DB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83DAF9-8D77-4F42-80D7-116769AB0C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3571B-21B5-44DF-9703-5F0ACB1480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9531A-85C8-46DB-9B3E-5C789B68E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FD2F2-0523-452C-A760-C3B2C48BD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7F26A-1566-48A4-9569-6DA4CB7A7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EAA45-E4BF-4A97-B7C3-C98FC49F4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E2C0DC-184C-42E5-A199-2927947D0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60810-973B-4DDC-A006-46BE8A73E7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A37EF-74DA-440C-AE15-59AFFB68F1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966AF0-066F-4D65-82F5-2342DB24AD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DEC199-720F-4A62-8509-354B5CB5C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D867C-398B-4DD3-8454-0621D88076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BA780-D0A6-4C6D-B58C-3144A9D72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0B1693-7A6E-416D-A6B1-DAD795012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C0D4-3332-4198-93C5-34E6669D5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4D3A1-4CC7-4B94-B88D-2AA9A60D41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D849E-3F2E-4E70-90CB-28668B2F4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163710-AE3D-49F0-833E-736886107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2E442-D89B-4719-89FE-8FF8AB602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2A8BC-7865-4C8F-8289-8F1A7FCE5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826AE3-F927-4EAD-9FB4-48DA167AF9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FA619-8952-439F-A29B-8BC745F690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6663F9E-0A99-4A61-8EA3-F38DB4F03FA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E9744F4-4D54-4FC9-9CDD-39C65B9BA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B73402C-80E5-4896-9F1C-030BB6BE1F1B}"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0BAB-BF53-409D-A073-C9B07EAE8164}"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48AD-80C1-4D58-B93D-F5B2B1F1C74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09E1-DE0F-4FA2-899F-C341331772E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CC71-1899-4894-A3D5-A40CE0697BB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9C5A-BD35-40C1-9C1C-275304ADF7F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E0E9-8CF7-426C-8347-4205BB73EA2C}"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0BFA-C82F-439E-9BAA-0FEFA8B8FD5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E6AA-9BAA-48A5-9E84-CB137B71942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78E5-4D30-44F6-89AB-5DBFF60E575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7B9C-0509-4FC7-923C-101B2D997D9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2345-3B87-42B2-BE5F-54AA32346E66}"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4D1-2AF1-4A22-9AEC-BFAD426E935E}"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DD7B-3486-4B7B-A677-8A7ED94471B5}"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72BF-5A82-42BE-A87C-D71EA9755D5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A562-4683-4F3E-BA61-2F5E70332575}"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2F28-C012-4000-B396-832D8AC90D31}"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71FE-4864-4368-A08C-7741C79DB2E7}"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A8F1-903B-4871-A530-FE2634FABFB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AFA5-1818-4008-9AF5-1C18F259363B}"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4C16-47E0-41D3-85FB-B3744A1F357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57A0-2759-4BBE-A20F-C98442544122}"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E53C-F6D5-4820-A25A-54707C82B5C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D42F-A7BA-4E2B-BED5-99EE66321C00}"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8C5F-99D3-4C5C-ACCA-5FDBD1F5CA2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8323-A6AE-4551-B701-CD3BC7D79661}"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6D22-346E-448D-8C71-D395A9E252E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E6BD-6490-4691-A168-3733A21B9328}" type="datetime">
              <a:rPr b="0" lang="da-DK"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7CEE-96B6-4ED3-9732-1B1F7E9844A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677B-4372-4130-B4CD-691E70E04357}"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5DE0-2723-4404-A1EC-62B35A5280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A6E2-275A-4812-86D8-12A13E7FB2EB}"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2364-8DB9-445C-AA08-5A1C38A90D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D80D-F9AA-4C03-A836-13630BCE2E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07A5-6C1A-4370-892F-EB70EF8E98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F548-E097-4E24-86BC-747B69B437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7DD3-2152-4A1F-B5A2-DF2F51B361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9DBE-A468-480B-B854-57C36EDFEB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8B5F-3DA4-43E6-A034-0A624EF01C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FD4F-AF9E-4B22-BC22-8FF29C8D66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50F3-82AC-4C6D-8894-53F6E7A73763}"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8CDE-2147-4DBF-B5D9-46D3250B22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8F5A-F4F5-424C-9019-6D0D601F03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F5C5-1F3A-4AFE-BC77-2454D7B7C2C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DCCE-C3AE-4561-8DF0-6D866E683CC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kb.iu.edu/data/ahic.html" TargetMode="External"/><Relationship Id="rId2" Type="http://schemas.openxmlformats.org/officeDocument/2006/relationships/slideLayout" Target="../slideLayouts/slideLayout3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42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center.ncsu.edu/nc" TargetMode="External"/><Relationship Id="rId2" Type="http://schemas.openxmlformats.org/officeDocument/2006/relationships/image" Target="../media/image40.png"/><Relationship Id="rId3" Type="http://schemas.openxmlformats.org/officeDocument/2006/relationships/slideLayout" Target="../slideLayouts/slideLayout36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6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s://docs.google.com/spreadsheet/viewform?formkey=dFRBTUh5aDVaTmFaMTNlamw3ZkZHOUE6MQ" TargetMode="External"/><Relationship Id="rId3" Type="http://schemas.openxmlformats.org/officeDocument/2006/relationships/slideLayout" Target="../slideLayouts/slideLayout36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36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3"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4"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75"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NCEES Reminders &amp; Enhancements</a:t>
            </a:r>
            <a:endParaRPr b="0" lang="en-US" sz="4000" spc="-1" strike="noStrike">
              <a:solidFill>
                <a:srgbClr val="000000"/>
              </a:solidFill>
              <a:latin typeface="Calibri"/>
            </a:endParaRPr>
          </a:p>
        </p:txBody>
      </p:sp>
      <p:sp>
        <p:nvSpPr>
          <p:cNvPr id="1677" name=""/>
          <p:cNvSpPr txBox="1"/>
          <p:nvPr/>
        </p:nvSpPr>
        <p:spPr>
          <a:xfrm>
            <a:off x="457200" y="129528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use of the online tool is required beginning July 1, 2011. This includes teachers, principals, and assistant principal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your cashe file for better functioning of the online tool.</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ff0000"/>
                </a:solidFill>
                <a:uFillTx/>
                <a:latin typeface="Calibri"/>
                <a:hlinkClick r:id="rId1"/>
              </a:rPr>
              <a:t>http://kb.iu.edu/data/ahic.htm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remember forms will travel with teachers inside districts but will not travel if a teacher changes distric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your spreadsheet is accurate before sending it to McRel to avoid sending multiple copies in a short period of tim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e Record of Teacher activities form for teachers now. The form will automatically date as forms are signed but it will not back-date any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79"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2"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3"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4"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5"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7"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533520" y="1447560"/>
            <a:ext cx="82296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 feel very comfortable using the NC Evaluation system to complete  a summative for my teachers.</a:t>
            </a:r>
            <a:br>
              <a:rPr sz="3600"/>
            </a:br>
            <a:br>
              <a:rPr sz="3600"/>
            </a:br>
            <a:r>
              <a:rPr b="0" lang="en-US" sz="4400" spc="-1" strike="noStrike">
                <a:solidFill>
                  <a:srgbClr val="000000"/>
                </a:solidFill>
                <a:latin typeface="Calibri"/>
              </a:rPr>
              <a:t>Scale 1 to 4</a:t>
            </a:r>
            <a:br>
              <a:rPr sz="4400"/>
            </a:br>
            <a:r>
              <a:rPr b="0" lang="en-US" sz="3600" spc="-1" strike="noStrike">
                <a:solidFill>
                  <a:srgbClr val="000000"/>
                </a:solidFill>
                <a:latin typeface="Calibri"/>
              </a:rPr>
              <a:t>1- not comfortable</a:t>
            </a:r>
            <a:br>
              <a:rPr sz="3600"/>
            </a:br>
            <a:r>
              <a:rPr b="0" lang="en-US" sz="3600" spc="-1" strike="noStrike">
                <a:solidFill>
                  <a:srgbClr val="000000"/>
                </a:solidFill>
                <a:latin typeface="Calibri"/>
              </a:rPr>
              <a:t>4- very comfor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689"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How Would You Rate the Standards?</a:t>
            </a:r>
            <a:endParaRPr b="0" lang="en-US" sz="3600" spc="-1" strike="noStrike">
              <a:solidFill>
                <a:srgbClr val="000000"/>
              </a:solidFill>
              <a:latin typeface="Calibri"/>
            </a:endParaRPr>
          </a:p>
        </p:txBody>
      </p:sp>
      <p:sp>
        <p:nvSpPr>
          <p:cNvPr id="1691"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693"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Rubric for Evaluating</a:t>
            </a:r>
            <a:br>
              <a:rPr sz="4400"/>
            </a:br>
            <a:r>
              <a:rPr b="1" lang="en-US" sz="4400" spc="-1" strike="noStrike">
                <a:solidFill>
                  <a:srgbClr val="002060"/>
                </a:solidFill>
                <a:latin typeface="Calibri"/>
              </a:rPr>
              <a:t> North Carolina Teachers</a:t>
            </a:r>
            <a:endParaRPr b="0" lang="en-US" sz="4400" spc="-1" strike="noStrike">
              <a:solidFill>
                <a:srgbClr val="000000"/>
              </a:solidFill>
              <a:latin typeface="Calibri"/>
            </a:endParaRPr>
          </a:p>
        </p:txBody>
      </p:sp>
      <p:pic>
        <p:nvPicPr>
          <p:cNvPr id="1695"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ssessing Inter-Rater Reliability</a:t>
            </a:r>
            <a:endParaRPr b="0" lang="en-US" sz="4400" spc="-1" strike="noStrike">
              <a:solidFill>
                <a:srgbClr val="000000"/>
              </a:solidFill>
              <a:latin typeface="Calibri"/>
            </a:endParaRPr>
          </a:p>
        </p:txBody>
      </p:sp>
      <p:sp>
        <p:nvSpPr>
          <p:cNvPr id="1698" name="TextBox 3"/>
          <p:cNvSpPr/>
          <p:nvPr/>
        </p:nvSpPr>
        <p:spPr>
          <a:xfrm>
            <a:off x="762120" y="190512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statement</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e the standard and elemen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 the rubric</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e the teacher based on th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formation provided</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us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1</a:t>
            </a:r>
            <a:br>
              <a:rPr sz="4400"/>
            </a:br>
            <a:endParaRPr b="0" lang="en-US" sz="4400" spc="-1" strike="noStrike">
              <a:solidFill>
                <a:srgbClr val="000000"/>
              </a:solidFill>
              <a:latin typeface="Calibri"/>
            </a:endParaRPr>
          </a:p>
        </p:txBody>
      </p:sp>
      <p:sp>
        <p:nvSpPr>
          <p:cNvPr id="170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C: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 plans reflect integration of technology.</a:t>
            </a:r>
            <a:endParaRPr b="0" lang="en-US" sz="4000" spc="-1" strike="noStrike">
              <a:solidFill>
                <a:srgbClr val="000000"/>
              </a:solidFill>
              <a:latin typeface="Calibri"/>
            </a:endParaRPr>
          </a:p>
        </p:txBody>
      </p:sp>
      <p:sp>
        <p:nvSpPr>
          <p:cNvPr id="1702"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s reflect consistent integration of new technology to support instructional goals.</a:t>
            </a:r>
            <a:endParaRPr b="0" lang="en-US" sz="4000" spc="-1" strike="noStrike">
              <a:solidFill>
                <a:srgbClr val="000000"/>
              </a:solidFill>
              <a:latin typeface="Calibri"/>
            </a:endParaRPr>
          </a:p>
        </p:txBody>
      </p:sp>
      <p:sp>
        <p:nvSpPr>
          <p:cNvPr id="1704" name=""/>
          <p:cNvSpPr txBox="1"/>
          <p:nvPr/>
        </p:nvSpPr>
        <p:spPr>
          <a:xfrm>
            <a:off x="609480" y="266688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2</a:t>
            </a:r>
            <a:br>
              <a:rPr sz="4400"/>
            </a:br>
            <a:endParaRPr b="0" lang="en-US" sz="4400" spc="-1" strike="noStrike">
              <a:solidFill>
                <a:srgbClr val="000000"/>
              </a:solidFill>
              <a:latin typeface="Calibri"/>
            </a:endParaRPr>
          </a:p>
        </p:txBody>
      </p:sp>
      <p:sp>
        <p:nvSpPr>
          <p:cNvPr id="170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B:  Teachers plan instruction appropriate for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76212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 feel very comfortable using the NCEES to complete an observation.</a:t>
            </a:r>
            <a:br>
              <a:rPr sz="3600"/>
            </a:br>
            <a:br>
              <a:rPr sz="3600"/>
            </a:br>
            <a:r>
              <a:rPr b="0" lang="en-US" sz="4400" spc="-1" strike="noStrike">
                <a:solidFill>
                  <a:srgbClr val="000000"/>
                </a:solidFill>
                <a:latin typeface="Calibri"/>
              </a:rPr>
              <a:t> Scale 1 to 4</a:t>
            </a:r>
            <a:br>
              <a:rPr sz="4400"/>
            </a:br>
            <a:r>
              <a:rPr b="0" lang="en-US" sz="3600" spc="-1" strike="noStrike">
                <a:solidFill>
                  <a:srgbClr val="000000"/>
                </a:solidFill>
                <a:latin typeface="Calibri"/>
              </a:rPr>
              <a:t>1- not comfortable</a:t>
            </a:r>
            <a:br>
              <a:rPr sz="3600"/>
            </a:br>
            <a:r>
              <a:rPr b="0" lang="en-US" sz="3600" spc="-1" strike="noStrike">
                <a:solidFill>
                  <a:srgbClr val="000000"/>
                </a:solidFill>
                <a:latin typeface="Calibri"/>
              </a:rPr>
              <a:t>4- very comfor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ses student scores on assessments to modify lessons each day to meet student needs.</a:t>
            </a:r>
            <a:endParaRPr b="0" lang="en-US" sz="4000" spc="-1" strike="noStrike">
              <a:solidFill>
                <a:srgbClr val="000000"/>
              </a:solidFill>
              <a:latin typeface="Calibri"/>
            </a:endParaRPr>
          </a:p>
        </p:txBody>
      </p:sp>
      <p:sp>
        <p:nvSpPr>
          <p:cNvPr id="1708"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2</a:t>
            </a:r>
            <a:br>
              <a:rPr sz="4400"/>
            </a:br>
            <a:endParaRPr b="0" lang="en-US" sz="4400" spc="-1" strike="noStrike">
              <a:solidFill>
                <a:srgbClr val="000000"/>
              </a:solidFill>
              <a:latin typeface="Calibri"/>
            </a:endParaRPr>
          </a:p>
        </p:txBody>
      </p:sp>
      <p:sp>
        <p:nvSpPr>
          <p:cNvPr id="1710" name=""/>
          <p:cNvSpPr txBox="1"/>
          <p:nvPr/>
        </p:nvSpPr>
        <p:spPr>
          <a:xfrm>
            <a:off x="457200" y="1600200"/>
            <a:ext cx="8686800" cy="4525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a:t>
            </a:r>
            <a:r>
              <a:rPr b="0" lang="en-US" sz="3600" spc="-1" strike="noStrike">
                <a:solidFill>
                  <a:srgbClr val="007eea"/>
                </a:solidFill>
                <a:latin typeface="Calibri"/>
              </a:rPr>
              <a:t>Teachers facilitate learning for their students.</a:t>
            </a: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A</a:t>
            </a:r>
            <a:r>
              <a:rPr b="0" lang="en-US" sz="3600" spc="-1" strike="noStrike">
                <a:solidFill>
                  <a:srgbClr val="007eea"/>
                </a:solidFill>
                <a:latin typeface="Calibri"/>
              </a:rPr>
              <a:t>:  Teachers know ways in which learning takes place, and they know the appropriate levels of intellectual, physical, social and emotional development of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s reflect awareness of student readiness through the use of formative assessment.</a:t>
            </a:r>
            <a:endParaRPr b="0" lang="en-US" sz="4000" spc="-1" strike="noStrike">
              <a:solidFill>
                <a:srgbClr val="000000"/>
              </a:solidFill>
              <a:latin typeface="Calibri"/>
            </a:endParaRPr>
          </a:p>
        </p:txBody>
      </p:sp>
      <p:sp>
        <p:nvSpPr>
          <p:cNvPr id="1712" name=""/>
          <p:cNvSpPr txBox="1"/>
          <p:nvPr/>
        </p:nvSpPr>
        <p:spPr>
          <a:xfrm>
            <a:off x="914400" y="2819160"/>
            <a:ext cx="8229600" cy="3382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orks with colleagues to adjust instruction based on student work samples.</a:t>
            </a:r>
            <a:endParaRPr b="0" lang="en-US" sz="4000" spc="-1" strike="noStrike">
              <a:solidFill>
                <a:srgbClr val="000000"/>
              </a:solidFill>
              <a:latin typeface="Calibri"/>
            </a:endParaRPr>
          </a:p>
        </p:txBody>
      </p:sp>
      <p:sp>
        <p:nvSpPr>
          <p:cNvPr id="1714" name="PlaceHolder 2"/>
          <p:cNvSpPr>
            <a:spLocks noGrp="1"/>
          </p:cNvSpPr>
          <p:nvPr>
            <p:ph/>
          </p:nvPr>
        </p:nvSpPr>
        <p:spPr>
          <a:xfrm>
            <a:off x="10666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 plans reflect use of student learning styles.</a:t>
            </a:r>
            <a:endParaRPr b="0" lang="en-US" sz="4000" spc="-1" strike="noStrike">
              <a:solidFill>
                <a:srgbClr val="000000"/>
              </a:solidFill>
              <a:latin typeface="Calibri"/>
            </a:endParaRPr>
          </a:p>
        </p:txBody>
      </p:sp>
      <p:sp>
        <p:nvSpPr>
          <p:cNvPr id="1716"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mall group instruction is consistently adjusted to meet the needs of students.</a:t>
            </a:r>
            <a:endParaRPr b="0" lang="en-US" sz="4000" spc="-1" strike="noStrike">
              <a:solidFill>
                <a:srgbClr val="000000"/>
              </a:solidFill>
              <a:latin typeface="Calibri"/>
            </a:endParaRPr>
          </a:p>
        </p:txBody>
      </p:sp>
      <p:sp>
        <p:nvSpPr>
          <p:cNvPr id="1718" name="PlaceHolder 2"/>
          <p:cNvSpPr>
            <a:spLocks noGrp="1"/>
          </p:cNvSpPr>
          <p:nvPr>
            <p:ph/>
          </p:nvPr>
        </p:nvSpPr>
        <p:spPr>
          <a:xfrm>
            <a:off x="12952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3</a:t>
            </a:r>
            <a:br>
              <a:rPr sz="4400"/>
            </a:br>
            <a:endParaRPr b="0" lang="en-US" sz="4400" spc="-1" strike="noStrike">
              <a:solidFill>
                <a:srgbClr val="000000"/>
              </a:solidFill>
              <a:latin typeface="Calibri"/>
            </a:endParaRPr>
          </a:p>
        </p:txBody>
      </p:sp>
      <p:sp>
        <p:nvSpPr>
          <p:cNvPr id="1720" name=""/>
          <p:cNvSpPr txBox="1"/>
          <p:nvPr/>
        </p:nvSpPr>
        <p:spPr>
          <a:xfrm>
            <a:off x="457200" y="1600200"/>
            <a:ext cx="86868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1:  Teachers demonstrate leadership.</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A: Teachers lead in their classro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udents in the classroom are risk takers and seek to collaborate with each other.</a:t>
            </a:r>
            <a:endParaRPr b="0" lang="en-US" sz="4000" spc="-1" strike="noStrike">
              <a:solidFill>
                <a:srgbClr val="000000"/>
              </a:solidFill>
              <a:latin typeface="Calibri"/>
            </a:endParaRPr>
          </a:p>
        </p:txBody>
      </p:sp>
      <p:sp>
        <p:nvSpPr>
          <p:cNvPr id="1722" name=""/>
          <p:cNvSpPr txBox="1"/>
          <p:nvPr/>
        </p:nvSpPr>
        <p:spPr>
          <a:xfrm>
            <a:off x="914400" y="2895480"/>
            <a:ext cx="7391520" cy="28195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lassroom rules are posted and students are aware of procedures.</a:t>
            </a:r>
            <a:endParaRPr b="0" lang="en-US" sz="4000" spc="-1" strike="noStrike">
              <a:solidFill>
                <a:srgbClr val="000000"/>
              </a:solidFill>
              <a:latin typeface="Calibri"/>
            </a:endParaRPr>
          </a:p>
        </p:txBody>
      </p:sp>
      <p:sp>
        <p:nvSpPr>
          <p:cNvPr id="1724" name="PlaceHolder 2"/>
          <p:cNvSpPr>
            <a:spLocks noGrp="1"/>
          </p:cNvSpPr>
          <p:nvPr>
            <p:ph/>
          </p:nvPr>
        </p:nvSpPr>
        <p:spPr>
          <a:xfrm>
            <a:off x="914400" y="23320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4</a:t>
            </a:r>
            <a:br>
              <a:rPr sz="4400"/>
            </a:br>
            <a:endParaRPr b="0" lang="en-US" sz="4400" spc="-1" strike="noStrike">
              <a:solidFill>
                <a:srgbClr val="000000"/>
              </a:solidFill>
              <a:latin typeface="Calibri"/>
            </a:endParaRPr>
          </a:p>
        </p:txBody>
      </p:sp>
      <p:sp>
        <p:nvSpPr>
          <p:cNvPr id="1726" name=""/>
          <p:cNvSpPr txBox="1"/>
          <p:nvPr/>
        </p:nvSpPr>
        <p:spPr>
          <a:xfrm>
            <a:off x="456840" y="1600200"/>
            <a:ext cx="838188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3:  Teachers know the content they tea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C:  Teachers recognize the interconnectedness of content areas/disciplin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990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My teachers have completed their 2011 PDP and Self-Assessment</a:t>
            </a:r>
            <a:r>
              <a:rPr b="1" lang="en-US" sz="4400" spc="-1" strike="noStrike">
                <a:solidFill>
                  <a:srgbClr val="ff0000"/>
                </a:solidFill>
                <a:latin typeface="Calibri"/>
              </a:rPr>
              <a:t>.</a:t>
            </a:r>
            <a:endParaRPr b="0" lang="en-US" sz="4400" spc="-1" strike="noStrike">
              <a:solidFill>
                <a:srgbClr val="000000"/>
              </a:solidFill>
              <a:latin typeface="Calibri"/>
            </a:endParaRPr>
          </a:p>
        </p:txBody>
      </p:sp>
      <p:sp>
        <p:nvSpPr>
          <p:cNvPr id="1618" name="PlaceHolder 2"/>
          <p:cNvSpPr>
            <a:spLocks noGrp="1"/>
          </p:cNvSpPr>
          <p:nvPr>
            <p:ph/>
          </p:nvPr>
        </p:nvSpPr>
        <p:spPr>
          <a:xfrm>
            <a:off x="457200" y="2819160"/>
            <a:ext cx="8229600" cy="2925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1- 100%</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less than 5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eacher integrate current events from around the world into his daily lessons.</a:t>
            </a:r>
            <a:endParaRPr b="0" lang="en-US" sz="4000" spc="-1" strike="noStrike">
              <a:solidFill>
                <a:srgbClr val="000000"/>
              </a:solidFill>
              <a:latin typeface="Calibri"/>
            </a:endParaRPr>
          </a:p>
        </p:txBody>
      </p:sp>
      <p:sp>
        <p:nvSpPr>
          <p:cNvPr id="1728" name="PlaceHolder 2"/>
          <p:cNvSpPr>
            <a:spLocks noGrp="1"/>
          </p:cNvSpPr>
          <p:nvPr>
            <p:ph/>
          </p:nvPr>
        </p:nvSpPr>
        <p:spPr>
          <a:xfrm>
            <a:off x="914400" y="28195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5</a:t>
            </a:r>
            <a:br>
              <a:rPr sz="4400"/>
            </a:br>
            <a:endParaRPr b="0" lang="en-US" sz="4400" spc="-1" strike="noStrike">
              <a:solidFill>
                <a:srgbClr val="000000"/>
              </a:solidFill>
              <a:latin typeface="Calibri"/>
            </a:endParaRPr>
          </a:p>
        </p:txBody>
      </p:sp>
      <p:sp>
        <p:nvSpPr>
          <p:cNvPr id="17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C: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ow Would You Rate this Teacher?</a:t>
            </a:r>
            <a:endParaRPr b="0" lang="en-US" sz="4400" spc="-1" strike="noStrike">
              <a:solidFill>
                <a:srgbClr val="000000"/>
              </a:solidFill>
              <a:latin typeface="Calibri"/>
            </a:endParaRPr>
          </a:p>
        </p:txBody>
      </p:sp>
      <p:sp>
        <p:nvSpPr>
          <p:cNvPr id="1732"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ow Would You Rate this Teacher?</a:t>
            </a:r>
            <a:endParaRPr b="0" lang="en-US" sz="4400" spc="-1" strike="noStrike">
              <a:solidFill>
                <a:srgbClr val="000000"/>
              </a:solidFill>
              <a:latin typeface="Calibri"/>
            </a:endParaRPr>
          </a:p>
        </p:txBody>
      </p:sp>
      <p:sp>
        <p:nvSpPr>
          <p:cNvPr id="1734" name="PlaceHolder 2"/>
          <p:cNvSpPr>
            <a:spLocks noGrp="1"/>
          </p:cNvSpPr>
          <p:nvPr>
            <p:ph/>
          </p:nvPr>
        </p:nvSpPr>
        <p:spPr>
          <a:xfrm>
            <a:off x="1371600" y="19051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Sixth Standard for Teachers:</a:t>
            </a:r>
            <a:endParaRPr b="0" lang="en-US" sz="4400" spc="-1" strike="noStrike">
              <a:solidFill>
                <a:srgbClr val="000000"/>
              </a:solidFill>
              <a:latin typeface="Calibri"/>
            </a:endParaRPr>
          </a:p>
        </p:txBody>
      </p:sp>
      <p:pic>
        <p:nvPicPr>
          <p:cNvPr id="1736"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e Eighth Standard for Administrators:</a:t>
            </a:r>
            <a:endParaRPr b="0" lang="en-US" sz="3600" spc="-1" strike="noStrike">
              <a:solidFill>
                <a:srgbClr val="000000"/>
              </a:solidFill>
              <a:latin typeface="Calibri"/>
            </a:endParaRPr>
          </a:p>
        </p:txBody>
      </p:sp>
      <p:pic>
        <p:nvPicPr>
          <p:cNvPr id="1738"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9" name="Diagram 5" descr=""/>
          <p:cNvPicPr/>
          <p:nvPr/>
        </p:nvPicPr>
        <p:blipFill>
          <a:blip r:embed="rId1"/>
          <a:stretch/>
        </p:blipFill>
        <p:spPr>
          <a:xfrm>
            <a:off x="901800" y="1030320"/>
            <a:ext cx="7188120" cy="2700360"/>
          </a:xfrm>
          <a:prstGeom prst="rect">
            <a:avLst/>
          </a:prstGeom>
          <a:ln w="0">
            <a:noFill/>
          </a:ln>
        </p:spPr>
      </p:pic>
      <p:pic>
        <p:nvPicPr>
          <p:cNvPr id="1740" name="Diagram 7" descr=""/>
          <p:cNvPicPr/>
          <p:nvPr/>
        </p:nvPicPr>
        <p:blipFill>
          <a:blip r:embed="rId2"/>
          <a:stretch/>
        </p:blipFill>
        <p:spPr>
          <a:xfrm>
            <a:off x="901800" y="3700440"/>
            <a:ext cx="7188120" cy="2700360"/>
          </a:xfrm>
          <a:prstGeom prst="rect">
            <a:avLst/>
          </a:prstGeom>
          <a:ln w="0">
            <a:noFill/>
          </a:ln>
        </p:spPr>
      </p:pic>
      <p:sp>
        <p:nvSpPr>
          <p:cNvPr id="1741"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ule Release Updates</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0" lang="en-US" sz="4400" spc="-1" strike="noStrike" u="sng">
                <a:solidFill>
                  <a:srgbClr val="ff0000"/>
                </a:solidFill>
                <a:uFillTx/>
                <a:latin typeface="Calibri"/>
                <a:hlinkClick r:id="rId1"/>
              </a:rPr>
              <a:t>http://center.ncsu.edu/nc</a:t>
            </a:r>
            <a:r>
              <a:rPr b="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743" name="Content Placeholder 3" descr=""/>
          <p:cNvPicPr/>
          <p:nvPr/>
        </p:nvPicPr>
        <p:blipFill>
          <a:blip r:embed="rId2"/>
          <a:stretch/>
        </p:blipFill>
        <p:spPr>
          <a:xfrm>
            <a:off x="669960" y="1584360"/>
            <a:ext cx="7808760" cy="451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4" name="Picture 5" descr="questions.jpg"/>
          <p:cNvPicPr/>
          <p:nvPr/>
        </p:nvPicPr>
        <p:blipFill>
          <a:blip r:embed="rId1"/>
          <a:stretch/>
        </p:blipFill>
        <p:spPr>
          <a:xfrm>
            <a:off x="990720" y="685800"/>
            <a:ext cx="6949800" cy="521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53352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 feel comfortable with using the NC Evaluation system to complete  an observation and summative for my teachers.</a:t>
            </a:r>
            <a:br>
              <a:rPr sz="3600"/>
            </a:br>
            <a:br>
              <a:rPr sz="3600"/>
            </a:br>
            <a:r>
              <a:rPr b="0" lang="en-US" sz="3600" spc="-1" strike="noStrike">
                <a:solidFill>
                  <a:srgbClr val="000000"/>
                </a:solidFill>
                <a:latin typeface="Calibri"/>
              </a:rPr>
              <a:t> 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20"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21"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22"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26"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27"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29"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47"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8"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9" name="Picture 3" descr=""/>
          <p:cNvPicPr/>
          <p:nvPr/>
        </p:nvPicPr>
        <p:blipFill>
          <a:blip r:embed="rId1"/>
          <a:stretch/>
        </p:blipFill>
        <p:spPr>
          <a:xfrm rot="20986200">
            <a:off x="6490800" y="210600"/>
            <a:ext cx="2529000" cy="1619280"/>
          </a:xfrm>
          <a:prstGeom prst="rect">
            <a:avLst/>
          </a:prstGeom>
          <a:ln w="0">
            <a:noFill/>
          </a:ln>
        </p:spPr>
      </p:pic>
      <p:sp>
        <p:nvSpPr>
          <p:cNvPr id="1750"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libri"/>
              </a:rPr>
              <a:t>Ticket out the Door</a:t>
            </a:r>
            <a:endParaRPr b="0" lang="en-US" sz="5400" spc="-1" strike="noStrike">
              <a:solidFill>
                <a:srgbClr val="000000"/>
              </a:solidFill>
              <a:latin typeface="Calibri"/>
            </a:endParaRPr>
          </a:p>
        </p:txBody>
      </p:sp>
      <p:sp>
        <p:nvSpPr>
          <p:cNvPr id="1751" name=""/>
          <p:cNvSpPr txBox="1"/>
          <p:nvPr/>
        </p:nvSpPr>
        <p:spPr>
          <a:xfrm>
            <a:off x="457200" y="1981080"/>
            <a:ext cx="8229600" cy="4525920"/>
          </a:xfrm>
          <a:prstGeom prst="rect">
            <a:avLst/>
          </a:prstGeom>
          <a:noFill/>
          <a:ln w="0">
            <a:noFill/>
          </a:ln>
        </p:spPr>
        <p:txBody>
          <a:bodyPr anchor="t">
            <a:normAutofit fontScale="95000"/>
          </a:bodyPr>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You may complete the </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Narrow"/>
              </a:rPr>
              <a:t>Ticket out the Door </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y clicking below</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Narrow"/>
                <a:hlinkClick r:id="rId2"/>
              </a:rPr>
              <a:t>Reflection</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ttps://docs.google.com/spreadsheet/viewform?formkey=dFRBTUh5aDVaTmFaMTNlamw3ZkZHOUE6MQ#gid=0</a:t>
            </a:r>
            <a:endParaRPr b="0" lang="en-US" sz="2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2"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3"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Principal’s Responsibility</a:t>
            </a:r>
            <a:endParaRPr b="0" lang="en-US" sz="4400" spc="-1" strike="noStrike">
              <a:solidFill>
                <a:srgbClr val="000000"/>
              </a:solidFill>
              <a:latin typeface="Calibri"/>
            </a:endParaRPr>
          </a:p>
        </p:txBody>
      </p:sp>
      <p:pic>
        <p:nvPicPr>
          <p:cNvPr id="1631" name="Content Placeholder 3" descr=""/>
          <p:cNvPicPr/>
          <p:nvPr/>
        </p:nvPicPr>
        <p:blipFill>
          <a:blip r:embed="rId1"/>
          <a:stretch/>
        </p:blipFill>
        <p:spPr>
          <a:xfrm>
            <a:off x="450720" y="1414440"/>
            <a:ext cx="8242560" cy="4718160"/>
          </a:xfrm>
          <a:prstGeom prst="rect">
            <a:avLst/>
          </a:prstGeom>
          <a:ln w="0">
            <a:noFill/>
          </a:ln>
        </p:spPr>
      </p:pic>
      <p:grpSp>
        <p:nvGrpSpPr>
          <p:cNvPr id="1632" name="Rounded Rectangle 4"/>
          <p:cNvGrpSpPr/>
          <p:nvPr/>
        </p:nvGrpSpPr>
        <p:grpSpPr>
          <a:xfrm>
            <a:off x="3840120" y="1785960"/>
            <a:ext cx="1470240" cy="927000"/>
            <a:chOff x="3840120" y="1785960"/>
            <a:chExt cx="1470240" cy="927000"/>
          </a:xfrm>
        </p:grpSpPr>
        <p:pic>
          <p:nvPicPr>
            <p:cNvPr id="1633" name="Rounded Rectangle 4" descr=""/>
            <p:cNvPicPr/>
            <p:nvPr/>
          </p:nvPicPr>
          <p:blipFill>
            <a:blip r:embed="rId2"/>
            <a:stretch/>
          </p:blipFill>
          <p:spPr>
            <a:xfrm>
              <a:off x="3840120" y="1785960"/>
              <a:ext cx="1470240" cy="927000"/>
            </a:xfrm>
            <a:prstGeom prst="rect">
              <a:avLst/>
            </a:prstGeom>
            <a:ln w="0">
              <a:noFill/>
            </a:ln>
          </p:spPr>
        </p:pic>
        <p:sp>
          <p:nvSpPr>
            <p:cNvPr id="1634"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37" name="Group 21"/>
          <p:cNvGrpSpPr/>
          <p:nvPr/>
        </p:nvGrpSpPr>
        <p:grpSpPr>
          <a:xfrm>
            <a:off x="1828800" y="1676520"/>
            <a:ext cx="5562720" cy="4267080"/>
            <a:chOff x="1828800" y="1676520"/>
            <a:chExt cx="5562720" cy="4267080"/>
          </a:xfrm>
        </p:grpSpPr>
        <p:grpSp>
          <p:nvGrpSpPr>
            <p:cNvPr id="1638" name="Group 7"/>
            <p:cNvGrpSpPr/>
            <p:nvPr/>
          </p:nvGrpSpPr>
          <p:grpSpPr>
            <a:xfrm>
              <a:off x="1828800" y="1676520"/>
              <a:ext cx="2718720" cy="2084760"/>
              <a:chOff x="1828800" y="1676520"/>
              <a:chExt cx="2718720" cy="2084760"/>
            </a:xfrm>
          </p:grpSpPr>
          <p:grpSp>
            <p:nvGrpSpPr>
              <p:cNvPr id="1639" name="Pie 18"/>
              <p:cNvGrpSpPr/>
              <p:nvPr/>
            </p:nvGrpSpPr>
            <p:grpSpPr>
              <a:xfrm>
                <a:off x="1828800" y="1676520"/>
                <a:ext cx="2718720" cy="2084760"/>
                <a:chOff x="1828800" y="1676520"/>
                <a:chExt cx="2718720" cy="2084760"/>
              </a:xfrm>
            </p:grpSpPr>
            <p:pic>
              <p:nvPicPr>
                <p:cNvPr id="1640" name="Pie 18" descr=""/>
                <p:cNvPicPr/>
                <p:nvPr/>
              </p:nvPicPr>
              <p:blipFill>
                <a:blip r:embed="rId1"/>
                <a:stretch/>
              </p:blipFill>
              <p:spPr>
                <a:xfrm>
                  <a:off x="1828800" y="1676520"/>
                  <a:ext cx="2718720" cy="2084760"/>
                </a:xfrm>
                <a:prstGeom prst="rect">
                  <a:avLst/>
                </a:prstGeom>
                <a:ln w="0">
                  <a:noFill/>
                </a:ln>
              </p:spPr>
            </p:pic>
            <p:sp>
              <p:nvSpPr>
                <p:cNvPr id="1641"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2" name="Pie 12"/>
              <p:cNvGrpSpPr/>
              <p:nvPr/>
            </p:nvGrpSpPr>
            <p:grpSpPr>
              <a:xfrm>
                <a:off x="2067480" y="1937880"/>
                <a:ext cx="2467800" cy="1811520"/>
                <a:chOff x="2067480" y="1937880"/>
                <a:chExt cx="2467800" cy="1811520"/>
              </a:xfrm>
            </p:grpSpPr>
            <p:pic>
              <p:nvPicPr>
                <p:cNvPr id="1643" name="Pie 12" descr=""/>
                <p:cNvPicPr/>
                <p:nvPr/>
              </p:nvPicPr>
              <p:blipFill>
                <a:blip r:embed="rId2"/>
                <a:stretch/>
              </p:blipFill>
              <p:spPr>
                <a:xfrm>
                  <a:off x="2067480" y="1937880"/>
                  <a:ext cx="2467800" cy="1811520"/>
                </a:xfrm>
                <a:prstGeom prst="rect">
                  <a:avLst/>
                </a:prstGeom>
                <a:ln w="0">
                  <a:noFill/>
                </a:ln>
              </p:spPr>
            </p:pic>
            <p:sp>
              <p:nvSpPr>
                <p:cNvPr id="1644"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45" name="Group 8"/>
            <p:cNvGrpSpPr/>
            <p:nvPr/>
          </p:nvGrpSpPr>
          <p:grpSpPr>
            <a:xfrm>
              <a:off x="4672800" y="1676520"/>
              <a:ext cx="2718720" cy="2084760"/>
              <a:chOff x="4672800" y="1676520"/>
              <a:chExt cx="2718720" cy="2084760"/>
            </a:xfrm>
          </p:grpSpPr>
          <p:grpSp>
            <p:nvGrpSpPr>
              <p:cNvPr id="1646" name="Pie 16"/>
              <p:cNvGrpSpPr/>
              <p:nvPr/>
            </p:nvGrpSpPr>
            <p:grpSpPr>
              <a:xfrm>
                <a:off x="4672800" y="1676520"/>
                <a:ext cx="2718720" cy="2084760"/>
                <a:chOff x="4672800" y="1676520"/>
                <a:chExt cx="2718720" cy="2084760"/>
              </a:xfrm>
            </p:grpSpPr>
            <p:pic>
              <p:nvPicPr>
                <p:cNvPr id="1647" name="Pie 16" descr=""/>
                <p:cNvPicPr/>
                <p:nvPr/>
              </p:nvPicPr>
              <p:blipFill>
                <a:blip r:embed="rId3"/>
                <a:stretch/>
              </p:blipFill>
              <p:spPr>
                <a:xfrm>
                  <a:off x="4672800" y="1676520"/>
                  <a:ext cx="2718720" cy="2084760"/>
                </a:xfrm>
                <a:prstGeom prst="rect">
                  <a:avLst/>
                </a:prstGeom>
                <a:ln w="0">
                  <a:noFill/>
                </a:ln>
              </p:spPr>
            </p:pic>
            <p:sp>
              <p:nvSpPr>
                <p:cNvPr id="1648"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Pie 14"/>
              <p:cNvGrpSpPr/>
              <p:nvPr/>
            </p:nvGrpSpPr>
            <p:grpSpPr>
              <a:xfrm>
                <a:off x="4690440" y="1937880"/>
                <a:ext cx="2343240" cy="1811520"/>
                <a:chOff x="4690440" y="1937880"/>
                <a:chExt cx="2343240" cy="1811520"/>
              </a:xfrm>
            </p:grpSpPr>
            <p:pic>
              <p:nvPicPr>
                <p:cNvPr id="1650" name="Pie 14" descr=""/>
                <p:cNvPicPr/>
                <p:nvPr/>
              </p:nvPicPr>
              <p:blipFill>
                <a:blip r:embed="rId4"/>
                <a:stretch/>
              </p:blipFill>
              <p:spPr>
                <a:xfrm>
                  <a:off x="4690440" y="1937880"/>
                  <a:ext cx="2343240" cy="1811520"/>
                </a:xfrm>
                <a:prstGeom prst="rect">
                  <a:avLst/>
                </a:prstGeom>
                <a:ln w="0">
                  <a:noFill/>
                </a:ln>
              </p:spPr>
            </p:pic>
            <p:sp>
              <p:nvSpPr>
                <p:cNvPr id="1651"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52" name="Group 9"/>
            <p:cNvGrpSpPr/>
            <p:nvPr/>
          </p:nvGrpSpPr>
          <p:grpSpPr>
            <a:xfrm>
              <a:off x="4672800" y="3858840"/>
              <a:ext cx="2718720" cy="2084760"/>
              <a:chOff x="4672800" y="3858840"/>
              <a:chExt cx="2718720" cy="2084760"/>
            </a:xfrm>
          </p:grpSpPr>
          <p:grpSp>
            <p:nvGrpSpPr>
              <p:cNvPr id="1653" name="Pie 14"/>
              <p:cNvGrpSpPr/>
              <p:nvPr/>
            </p:nvGrpSpPr>
            <p:grpSpPr>
              <a:xfrm>
                <a:off x="4672800" y="3858840"/>
                <a:ext cx="2718720" cy="2084760"/>
                <a:chOff x="4672800" y="3858840"/>
                <a:chExt cx="2718720" cy="2084760"/>
              </a:xfrm>
            </p:grpSpPr>
            <p:pic>
              <p:nvPicPr>
                <p:cNvPr id="1654" name="Pie 14" descr=""/>
                <p:cNvPicPr/>
                <p:nvPr/>
              </p:nvPicPr>
              <p:blipFill>
                <a:blip r:embed="rId5"/>
                <a:stretch/>
              </p:blipFill>
              <p:spPr>
                <a:xfrm>
                  <a:off x="4672800" y="3858840"/>
                  <a:ext cx="2718720" cy="2084760"/>
                </a:xfrm>
                <a:prstGeom prst="rect">
                  <a:avLst/>
                </a:prstGeom>
                <a:ln w="0">
                  <a:noFill/>
                </a:ln>
              </p:spPr>
            </p:pic>
            <p:sp>
              <p:nvSpPr>
                <p:cNvPr id="1655"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6" name="Pie 16"/>
              <p:cNvGrpSpPr/>
              <p:nvPr/>
            </p:nvGrpSpPr>
            <p:grpSpPr>
              <a:xfrm>
                <a:off x="4815720" y="3888360"/>
                <a:ext cx="2140560" cy="1675080"/>
                <a:chOff x="4815720" y="3888360"/>
                <a:chExt cx="2140560" cy="1675080"/>
              </a:xfrm>
            </p:grpSpPr>
            <p:pic>
              <p:nvPicPr>
                <p:cNvPr id="1657" name="Pie 16" descr=""/>
                <p:cNvPicPr/>
                <p:nvPr/>
              </p:nvPicPr>
              <p:blipFill>
                <a:blip r:embed="rId6"/>
                <a:stretch/>
              </p:blipFill>
              <p:spPr>
                <a:xfrm>
                  <a:off x="4815720" y="3888360"/>
                  <a:ext cx="2140560" cy="1675080"/>
                </a:xfrm>
                <a:prstGeom prst="rect">
                  <a:avLst/>
                </a:prstGeom>
                <a:ln w="0">
                  <a:noFill/>
                </a:ln>
              </p:spPr>
            </p:pic>
            <p:sp>
              <p:nvSpPr>
                <p:cNvPr id="1658"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59" name="Group 10"/>
            <p:cNvGrpSpPr/>
            <p:nvPr/>
          </p:nvGrpSpPr>
          <p:grpSpPr>
            <a:xfrm>
              <a:off x="1828800" y="3858840"/>
              <a:ext cx="2718720" cy="2084760"/>
              <a:chOff x="1828800" y="3858840"/>
              <a:chExt cx="2718720" cy="2084760"/>
            </a:xfrm>
          </p:grpSpPr>
          <p:grpSp>
            <p:nvGrpSpPr>
              <p:cNvPr id="1660" name="Pie 12"/>
              <p:cNvGrpSpPr/>
              <p:nvPr/>
            </p:nvGrpSpPr>
            <p:grpSpPr>
              <a:xfrm>
                <a:off x="1828800" y="3858840"/>
                <a:ext cx="2718720" cy="2084760"/>
                <a:chOff x="1828800" y="3858840"/>
                <a:chExt cx="2718720" cy="2084760"/>
              </a:xfrm>
            </p:grpSpPr>
            <p:pic>
              <p:nvPicPr>
                <p:cNvPr id="1661" name="Pie 12" descr=""/>
                <p:cNvPicPr/>
                <p:nvPr/>
              </p:nvPicPr>
              <p:blipFill>
                <a:blip r:embed="rId7"/>
                <a:stretch/>
              </p:blipFill>
              <p:spPr>
                <a:xfrm>
                  <a:off x="1828800" y="3858840"/>
                  <a:ext cx="2718720" cy="2084760"/>
                </a:xfrm>
                <a:prstGeom prst="rect">
                  <a:avLst/>
                </a:prstGeom>
                <a:ln w="0">
                  <a:noFill/>
                </a:ln>
              </p:spPr>
            </p:pic>
            <p:sp>
              <p:nvSpPr>
                <p:cNvPr id="1662"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3" name="Pie 18"/>
              <p:cNvGrpSpPr/>
              <p:nvPr/>
            </p:nvGrpSpPr>
            <p:grpSpPr>
              <a:xfrm>
                <a:off x="2462040" y="3870720"/>
                <a:ext cx="2073600" cy="1675080"/>
                <a:chOff x="2462040" y="3870720"/>
                <a:chExt cx="2073600" cy="1675080"/>
              </a:xfrm>
            </p:grpSpPr>
            <p:pic>
              <p:nvPicPr>
                <p:cNvPr id="1664" name="Pie 18" descr=""/>
                <p:cNvPicPr/>
                <p:nvPr/>
              </p:nvPicPr>
              <p:blipFill>
                <a:blip r:embed="rId8"/>
                <a:stretch/>
              </p:blipFill>
              <p:spPr>
                <a:xfrm>
                  <a:off x="2462040" y="3870720"/>
                  <a:ext cx="2073600" cy="1675080"/>
                </a:xfrm>
                <a:prstGeom prst="rect">
                  <a:avLst/>
                </a:prstGeom>
                <a:ln w="0">
                  <a:noFill/>
                </a:ln>
              </p:spPr>
            </p:pic>
            <p:sp>
              <p:nvSpPr>
                <p:cNvPr id="1665"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66" name="Circular Arrow 10"/>
            <p:cNvGrpSpPr/>
            <p:nvPr/>
          </p:nvGrpSpPr>
          <p:grpSpPr>
            <a:xfrm>
              <a:off x="4145400" y="3383280"/>
              <a:ext cx="908280" cy="341280"/>
              <a:chOff x="4145400" y="3383280"/>
              <a:chExt cx="908280" cy="341280"/>
            </a:xfrm>
          </p:grpSpPr>
          <p:pic>
            <p:nvPicPr>
              <p:cNvPr id="1667" name="Circular Arrow 10" descr=""/>
              <p:cNvPicPr/>
              <p:nvPr/>
            </p:nvPicPr>
            <p:blipFill>
              <a:blip r:embed="rId9"/>
              <a:stretch/>
            </p:blipFill>
            <p:spPr>
              <a:xfrm>
                <a:off x="4145400" y="3383280"/>
                <a:ext cx="908280" cy="232920"/>
              </a:xfrm>
              <a:prstGeom prst="rect">
                <a:avLst/>
              </a:prstGeom>
              <a:ln w="0">
                <a:noFill/>
              </a:ln>
            </p:spPr>
          </p:pic>
          <p:sp>
            <p:nvSpPr>
              <p:cNvPr id="1668"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9" name="Circular Arrow 11"/>
            <p:cNvGrpSpPr/>
            <p:nvPr/>
          </p:nvGrpSpPr>
          <p:grpSpPr>
            <a:xfrm>
              <a:off x="4157640" y="3889440"/>
              <a:ext cx="908280" cy="341280"/>
              <a:chOff x="4157640" y="3889440"/>
              <a:chExt cx="908280" cy="341280"/>
            </a:xfrm>
          </p:grpSpPr>
          <p:pic>
            <p:nvPicPr>
              <p:cNvPr id="1670" name="Circular Arrow 11" descr=""/>
              <p:cNvPicPr/>
              <p:nvPr/>
            </p:nvPicPr>
            <p:blipFill>
              <a:blip r:embed="rId10"/>
              <a:stretch/>
            </p:blipFill>
            <p:spPr>
              <a:xfrm>
                <a:off x="4157640" y="3994920"/>
                <a:ext cx="908280" cy="235800"/>
              </a:xfrm>
              <a:prstGeom prst="rect">
                <a:avLst/>
              </a:prstGeom>
              <a:ln w="0">
                <a:noFill/>
              </a:ln>
            </p:spPr>
          </p:pic>
          <p:sp>
            <p:nvSpPr>
              <p:cNvPr id="1671"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0-31T15:57:29Z</dcterms:modified>
  <cp:revision>86</cp:revision>
  <dc:subject/>
  <dc:title>RESA Implementation Sessions Day 2 Process</dc:title>
</cp:coreProperties>
</file>